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2C8A-7C14-4134-A3E9-66DBE94256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84433-31C5-43FC-80B1-F1998F345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85FCE-10F6-45D2-9EF8-53954A26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03E21-0597-4D53-921A-9D5E75B361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F72E-A405-412D-8D86-FEAB17B22E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E1E0A-ECEA-4B9B-AD80-996583A5D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412AE-0DB1-40D0-9A8A-08F3DFB33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5423-8B74-48A7-BB52-3DEB40DAF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3D64-842E-4361-B7FF-96E3DB210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9E2CE-A9A5-4306-8FEA-45B2EAC68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66057-8406-412A-A9A3-5DB664A6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DB3A-CE56-4E97-B590-FFBBB817E7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1072-AA37-40F5-BBCB-AE662806C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8AAD-64DB-45FC-BDA0-ADD7C793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4498-9E28-4CA3-A3F4-693599B83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0652-8EB4-4AFE-937F-53D31AC83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30D12-33A8-4AD2-BDC9-F97A80A67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575D-F313-486A-BB67-D05876DE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1857-DFE0-49A3-9175-CAF29AA3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2ABCC-7D83-4475-A5FC-FD8678CB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66B7B-7053-4952-BC64-A57149E79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C3B1-63A8-4130-873E-75AF4BE9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34B5-7708-4387-ACDA-97D8BBDC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E083-FD79-4F44-99E6-29D1BA02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C4F5-D909-4A05-A044-989BD8B2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AAE86-9E95-46AB-864D-C07C069A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05DF-DA31-4AA4-A1DB-1C5E0D4A4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1608-9AA2-4164-BE8A-2A16F7CB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9DA1B-0BB8-49B4-BFAF-0C4DB33F8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EC2B-E011-432B-904A-E3035F22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D093-FDEE-4B4D-BC27-FE333ADE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53D3-80BC-4DCD-8310-340182F04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CC8A-41E1-494C-9EBF-1A06B2D73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BE52-91F3-4339-8986-0F38706D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18DF-5279-424C-8129-9D4C7494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471D-7AD8-444C-B79B-7B5FE307B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17E30-A338-461C-808C-19D712BEC461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cc33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C2AF-87CB-4F14-968B-0F9E9346391E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saburchill.com/IBbiology/bio_hp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eedmagazine.com/news/2006/07/andrea_barrett_niles_eldredge.php?page=all&amp;p=y" TargetMode="External"/><Relationship Id="rId4" Type="http://schemas.openxmlformats.org/officeDocument/2006/relationships/hyperlink" Target="http://www.saburchill.com/IBbiology/bio_hp.html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407160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800" spc="-1" strike="noStrike">
                <a:solidFill>
                  <a:srgbClr val="cc3300"/>
                </a:solidFill>
                <a:latin typeface="Garamond"/>
              </a:rPr>
              <a:t>PUNCTUATED EQUILIBRIUM</a:t>
            </a:r>
            <a:br>
              <a:rPr sz="5800"/>
            </a:br>
            <a:br>
              <a:rPr sz="5800"/>
            </a:br>
            <a:r>
              <a:rPr b="1" lang="en-GB" sz="1800" spc="-1" strike="noStrike">
                <a:solidFill>
                  <a:srgbClr val="cc3300"/>
                </a:solidFill>
                <a:latin typeface="Garamond"/>
              </a:rPr>
              <a:t>http://www.saburchill.com/IBbiology/chapters05/017.html</a:t>
            </a:r>
            <a:endParaRPr b="0" lang="en-US" sz="1800" spc="-1" strike="noStrike">
              <a:solidFill>
                <a:srgbClr val="cc33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Mechanism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Rapid natural selec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isolated popula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enetic drift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in small isolated population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peful mons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reakdown of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evelopmental homeostasi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Criticism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What is a species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How rapid is rapid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The incomplete fossil rec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NEO-DARWINISM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olutionary change is both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slow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sulting from the accumulation of many small genetic changes favoured by natura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effects occasionally making small contributio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Evolution of new species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wo possible ways from gradualis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PHYLETIC TRANS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LLOPATRIC SPECI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Garamond"/>
              </a:rPr>
              <a:t>PHYLETIC TRANSFORMATION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radual accumula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small genetic variations preserved by natural se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whole population imperceptibly to evolve in to a new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possible to draw a clear line between the end of the first species and the beginning of its descendant spe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here would be a long period of intermediate for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ALLOPATRIC SPECIATION</a:t>
            </a:r>
            <a:r>
              <a:rPr b="0" lang="fr-FR" sz="4400" spc="-1" strike="noStrike">
                <a:solidFill>
                  <a:srgbClr val="cc33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eographical or reproductive 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isolation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of a part of the population would allow it to evolve in a different dir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ossibly more rapidly than the main popul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the isolated population is small, it might be very difficult to find fossils of the intermediate stag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6"/>
          <p:cNvSpPr/>
          <p:nvPr/>
        </p:nvSpPr>
        <p:spPr>
          <a:xfrm rot="1355400">
            <a:off x="3220920" y="744480"/>
            <a:ext cx="61920" cy="463572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0080"/>
              </a:gs>
            </a:gsLst>
            <a:lin ang="4044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 rot="1369800">
            <a:off x="5987520" y="747360"/>
            <a:ext cx="70200" cy="146196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0000"/>
              </a:gs>
            </a:gsLst>
            <a:lin ang="403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 rot="2839800">
            <a:off x="4113000" y="-568080"/>
            <a:ext cx="103320" cy="83296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000080"/>
              </a:gs>
            </a:gsLst>
            <a:lin ang="256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9"/>
          <p:cNvSpPr/>
          <p:nvPr/>
        </p:nvSpPr>
        <p:spPr>
          <a:xfrm>
            <a:off x="993600" y="5527800"/>
            <a:ext cx="1519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80"/>
                </a:solidFill>
                <a:latin typeface="Arial"/>
              </a:rPr>
              <a:t>Species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3632040" y="595440"/>
            <a:ext cx="151956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Arial"/>
              </a:rPr>
              <a:t>Species 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4595760" y="242892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pecies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5351400" y="57960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80"/>
                </a:solidFill>
                <a:latin typeface="Arial"/>
              </a:rPr>
              <a:t>Species 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6931080" y="579600"/>
            <a:ext cx="1519200" cy="39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Species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8" name="Group 30"/>
          <p:cNvGrpSpPr/>
          <p:nvPr/>
        </p:nvGrpSpPr>
        <p:grpSpPr>
          <a:xfrm>
            <a:off x="663480" y="449280"/>
            <a:ext cx="2735280" cy="4738320"/>
            <a:chOff x="663480" y="449280"/>
            <a:chExt cx="2735280" cy="4738320"/>
          </a:xfrm>
        </p:grpSpPr>
        <p:sp>
          <p:nvSpPr>
            <p:cNvPr id="119" name="Line 14"/>
            <p:cNvSpPr/>
            <p:nvPr/>
          </p:nvSpPr>
          <p:spPr>
            <a:xfrm>
              <a:off x="1765440" y="2325960"/>
              <a:ext cx="564840" cy="286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Text Box 15"/>
            <p:cNvSpPr/>
            <p:nvPr/>
          </p:nvSpPr>
          <p:spPr>
            <a:xfrm>
              <a:off x="663480" y="449280"/>
              <a:ext cx="2735280" cy="1907640"/>
            </a:xfrm>
            <a:prstGeom prst="rect">
              <a:avLst/>
            </a:prstGeom>
            <a:solidFill>
              <a:srgbClr val="cc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llopatric speci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f Species W into species X due to the isolation of a small population of Species W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21" name="Group 29"/>
          <p:cNvGrpSpPr/>
          <p:nvPr/>
        </p:nvGrpSpPr>
        <p:grpSpPr>
          <a:xfrm>
            <a:off x="5838840" y="1792440"/>
            <a:ext cx="3146400" cy="2244600"/>
            <a:chOff x="5838840" y="1792440"/>
            <a:chExt cx="3146400" cy="2244600"/>
          </a:xfrm>
        </p:grpSpPr>
        <p:sp>
          <p:nvSpPr>
            <p:cNvPr id="122" name="Line 17"/>
            <p:cNvSpPr/>
            <p:nvPr/>
          </p:nvSpPr>
          <p:spPr>
            <a:xfrm flipH="1">
              <a:off x="5838840" y="2057400"/>
              <a:ext cx="173664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Text Box 18"/>
            <p:cNvSpPr/>
            <p:nvPr/>
          </p:nvSpPr>
          <p:spPr>
            <a:xfrm>
              <a:off x="6300720" y="1792440"/>
              <a:ext cx="2684520" cy="2244600"/>
            </a:xfrm>
            <a:prstGeom prst="rect">
              <a:avLst/>
            </a:prstGeom>
            <a:solidFill>
              <a:srgbClr val="ccffcc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Allopatric speciation</a:t>
              </a: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 of species Y into species Z due to the isolation of a small population of species Y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4" name="Line 20"/>
          <p:cNvSpPr/>
          <p:nvPr/>
        </p:nvSpPr>
        <p:spPr>
          <a:xfrm flipV="1">
            <a:off x="2433600" y="2941560"/>
            <a:ext cx="2873520" cy="2519280"/>
          </a:xfrm>
          <a:prstGeom prst="line">
            <a:avLst/>
          </a:prstGeom>
          <a:ln w="38160">
            <a:solidFill>
              <a:srgbClr val="0000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AutoShape 21"/>
          <p:cNvSpPr/>
          <p:nvPr/>
        </p:nvSpPr>
        <p:spPr>
          <a:xfrm>
            <a:off x="4821120" y="4362480"/>
            <a:ext cx="4121280" cy="1279440"/>
          </a:xfrm>
          <a:prstGeom prst="borderCallout1">
            <a:avLst>
              <a:gd name="adj1" fmla="val 18750"/>
              <a:gd name="adj2" fmla="val -8333"/>
              <a:gd name="adj3" fmla="val -15509"/>
              <a:gd name="adj4" fmla="val -21263"/>
            </a:avLst>
          </a:prstGeom>
          <a:solidFill>
            <a:srgbClr val="00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hyletic transitio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species W into Species Y due to the slow gradual accumulation of mutations in Species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6" name="Group 31"/>
          <p:cNvGrpSpPr/>
          <p:nvPr/>
        </p:nvGrpSpPr>
        <p:grpSpPr>
          <a:xfrm>
            <a:off x="241200" y="507960"/>
            <a:ext cx="8451720" cy="6337440"/>
            <a:chOff x="241200" y="507960"/>
            <a:chExt cx="8451720" cy="6337440"/>
          </a:xfrm>
        </p:grpSpPr>
        <p:grpSp>
          <p:nvGrpSpPr>
            <p:cNvPr id="127" name="Group 22"/>
            <p:cNvGrpSpPr/>
            <p:nvPr/>
          </p:nvGrpSpPr>
          <p:grpSpPr>
            <a:xfrm>
              <a:off x="663480" y="507960"/>
              <a:ext cx="8029440" cy="5905440"/>
              <a:chOff x="663480" y="507960"/>
              <a:chExt cx="8029440" cy="5905440"/>
            </a:xfrm>
          </p:grpSpPr>
          <p:sp>
            <p:nvSpPr>
              <p:cNvPr id="128" name="Line 23"/>
              <p:cNvSpPr/>
              <p:nvPr/>
            </p:nvSpPr>
            <p:spPr>
              <a:xfrm flipV="1">
                <a:off x="663480" y="507960"/>
                <a:ext cx="8640" cy="5905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663480" y="6405120"/>
                <a:ext cx="802944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30" name="Line 25"/>
            <p:cNvSpPr/>
            <p:nvPr/>
          </p:nvSpPr>
          <p:spPr>
            <a:xfrm flipV="1">
              <a:off x="384120" y="2523960"/>
              <a:ext cx="0" cy="295272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Line 26"/>
            <p:cNvSpPr/>
            <p:nvPr/>
          </p:nvSpPr>
          <p:spPr>
            <a:xfrm flipV="1">
              <a:off x="2172960" y="6671880"/>
              <a:ext cx="4999320" cy="27000"/>
            </a:xfrm>
            <a:prstGeom prst="line">
              <a:avLst/>
            </a:prstGeom>
            <a:ln w="572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Text Box 27"/>
            <p:cNvSpPr/>
            <p:nvPr/>
          </p:nvSpPr>
          <p:spPr>
            <a:xfrm>
              <a:off x="3647880" y="6489720"/>
              <a:ext cx="1649520" cy="355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Evolution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Text Box 28"/>
            <p:cNvSpPr/>
            <p:nvPr/>
          </p:nvSpPr>
          <p:spPr>
            <a:xfrm>
              <a:off x="241200" y="3460680"/>
              <a:ext cx="38736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4" name="Text Box 3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97168" presetSubtype="2264855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0" presetSubtype="226117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0" presetSubtype="226246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0" presetSubtype="226100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0" presetSubtype="226229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cc3300"/>
                </a:solidFill>
                <a:latin typeface="Garamond"/>
              </a:rPr>
              <a:t>THE PUNCTUATED EQUILIBRIUM MODEL</a:t>
            </a:r>
            <a:endParaRPr b="0" lang="en-US" sz="40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observed that the fossil record gives a different picture for the evolu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y claim that there were long periods of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tasi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4-10 million years) involving little evolutionary chang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n occasional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rapid formation of new speci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s little as 5,000 - 50,000 yea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5444280" y="1566720"/>
            <a:ext cx="3079080" cy="2187720"/>
            <a:chOff x="5444280" y="1566720"/>
            <a:chExt cx="3079080" cy="2187720"/>
          </a:xfrm>
        </p:grpSpPr>
        <p:pic>
          <p:nvPicPr>
            <p:cNvPr id="138" name="Picture 6" descr="sj-gould-200[1]"/>
            <p:cNvPicPr/>
            <p:nvPr/>
          </p:nvPicPr>
          <p:blipFill>
            <a:blip r:embed="rId1"/>
            <a:stretch/>
          </p:blipFill>
          <p:spPr>
            <a:xfrm>
              <a:off x="6902280" y="1566720"/>
              <a:ext cx="162108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Text Box 8"/>
            <p:cNvSpPr/>
            <p:nvPr/>
          </p:nvSpPr>
          <p:spPr>
            <a:xfrm>
              <a:off x="5444280" y="1620720"/>
              <a:ext cx="1252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Stephen J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Verdana"/>
                </a:rPr>
                <a:t>Gould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140" name="Group 11"/>
          <p:cNvGrpSpPr/>
          <p:nvPr/>
        </p:nvGrpSpPr>
        <p:grpSpPr>
          <a:xfrm>
            <a:off x="5205240" y="3989520"/>
            <a:ext cx="3631680" cy="2135160"/>
            <a:chOff x="5205240" y="3989520"/>
            <a:chExt cx="3631680" cy="2135160"/>
          </a:xfrm>
        </p:grpSpPr>
        <p:pic>
          <p:nvPicPr>
            <p:cNvPr id="141" name="Picture 7" descr="n eldredch"/>
            <p:cNvPicPr/>
            <p:nvPr/>
          </p:nvPicPr>
          <p:blipFill>
            <a:blip r:embed="rId2"/>
            <a:stretch/>
          </p:blipFill>
          <p:spPr>
            <a:xfrm>
              <a:off x="5205240" y="3989520"/>
              <a:ext cx="1714680" cy="21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9"/>
            <p:cNvSpPr/>
            <p:nvPr/>
          </p:nvSpPr>
          <p:spPr>
            <a:xfrm>
              <a:off x="7104600" y="5719680"/>
              <a:ext cx="173232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 u="sng">
                  <a:solidFill>
                    <a:srgbClr val="cc9900"/>
                  </a:solidFill>
                  <a:uFillTx/>
                  <a:latin typeface="Verdana"/>
                  <a:hlinkClick r:id="rId3"/>
                </a:rPr>
                <a:t>Niles Eldredge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43" name="Text Box 1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</a:t>
            </a:r>
            <a:r>
              <a:rPr b="0" lang="en-US" sz="12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cc3300"/>
                </a:solidFill>
                <a:latin typeface="Garamond"/>
              </a:rPr>
              <a:t>Stasis and change</a:t>
            </a:r>
            <a:endParaRPr b="0" lang="en-US" sz="4400" spc="-1" strike="noStrike">
              <a:solidFill>
                <a:srgbClr val="cc33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pecies resists evolutionary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 species would rather move to a new area where it can find its habitat than adapt to a new 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f a small population of a species should get isolated in an area where its habitat does not exist…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…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apid change could take place to bring the population back to equilibrium (stasi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33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ut it is no longer the same species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Group 4"/>
          <p:cNvGrpSpPr/>
          <p:nvPr/>
        </p:nvGrpSpPr>
        <p:grpSpPr>
          <a:xfrm>
            <a:off x="309600" y="419040"/>
            <a:ext cx="8523360" cy="6443280"/>
            <a:chOff x="309600" y="419040"/>
            <a:chExt cx="8523360" cy="6443280"/>
          </a:xfrm>
        </p:grpSpPr>
        <p:grpSp>
          <p:nvGrpSpPr>
            <p:cNvPr id="148" name="Group 5"/>
            <p:cNvGrpSpPr/>
            <p:nvPr/>
          </p:nvGrpSpPr>
          <p:grpSpPr>
            <a:xfrm>
              <a:off x="309600" y="746640"/>
              <a:ext cx="8523360" cy="6115680"/>
              <a:chOff x="309600" y="746640"/>
              <a:chExt cx="8523360" cy="6115680"/>
            </a:xfrm>
          </p:grpSpPr>
          <p:sp>
            <p:nvSpPr>
              <p:cNvPr id="149" name="Line 6"/>
              <p:cNvSpPr/>
              <p:nvPr/>
            </p:nvSpPr>
            <p:spPr>
              <a:xfrm flipV="1">
                <a:off x="592920" y="2230560"/>
                <a:ext cx="8280" cy="2455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Line 7"/>
              <p:cNvSpPr/>
              <p:nvPr/>
            </p:nvSpPr>
            <p:spPr>
              <a:xfrm flipV="1">
                <a:off x="2902320" y="6621120"/>
                <a:ext cx="3808800" cy="7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51" name="Group 8"/>
              <p:cNvGrpSpPr/>
              <p:nvPr/>
            </p:nvGrpSpPr>
            <p:grpSpPr>
              <a:xfrm>
                <a:off x="951120" y="746640"/>
                <a:ext cx="7881840" cy="5556240"/>
                <a:chOff x="951120" y="746640"/>
                <a:chExt cx="7881840" cy="5556240"/>
              </a:xfrm>
            </p:grpSpPr>
            <p:sp>
              <p:nvSpPr>
                <p:cNvPr id="152" name="Line 9"/>
                <p:cNvSpPr/>
                <p:nvPr/>
              </p:nvSpPr>
              <p:spPr>
                <a:xfrm flipV="1">
                  <a:off x="951120" y="746640"/>
                  <a:ext cx="8280" cy="5556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Line 10"/>
                <p:cNvSpPr/>
                <p:nvPr/>
              </p:nvSpPr>
              <p:spPr>
                <a:xfrm>
                  <a:off x="951120" y="6294240"/>
                  <a:ext cx="7881840" cy="7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11"/>
              <p:cNvSpPr/>
              <p:nvPr/>
            </p:nvSpPr>
            <p:spPr>
              <a:xfrm>
                <a:off x="4180320" y="6427080"/>
                <a:ext cx="1354680" cy="43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Evolution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Text Box 12"/>
              <p:cNvSpPr/>
              <p:nvPr/>
            </p:nvSpPr>
            <p:spPr>
              <a:xfrm>
                <a:off x="309600" y="3031200"/>
                <a:ext cx="519480" cy="83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0000"/>
                    </a:solidFill>
                    <a:latin typeface="Arial"/>
                  </a:rPr>
                  <a:t>Time</a:t>
                </a:r>
                <a:endParaRPr b="0" lang="en-US" sz="2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6" name="Group 13"/>
            <p:cNvGrpSpPr/>
            <p:nvPr/>
          </p:nvGrpSpPr>
          <p:grpSpPr>
            <a:xfrm>
              <a:off x="1632600" y="768600"/>
              <a:ext cx="6359040" cy="5136480"/>
              <a:chOff x="1632600" y="768600"/>
              <a:chExt cx="6359040" cy="5136480"/>
            </a:xfrm>
          </p:grpSpPr>
          <p:sp>
            <p:nvSpPr>
              <p:cNvPr id="157" name="Text Box 14"/>
              <p:cNvSpPr/>
              <p:nvPr/>
            </p:nvSpPr>
            <p:spPr>
              <a:xfrm>
                <a:off x="4038120" y="330948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15"/>
              <p:cNvSpPr/>
              <p:nvPr/>
            </p:nvSpPr>
            <p:spPr>
              <a:xfrm>
                <a:off x="6219360" y="236160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Text Box 16"/>
              <p:cNvSpPr/>
              <p:nvPr/>
            </p:nvSpPr>
            <p:spPr>
              <a:xfrm>
                <a:off x="1941840" y="4498560"/>
                <a:ext cx="17722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0080"/>
                    </a:solidFill>
                    <a:latin typeface="Arial"/>
                  </a:rPr>
                  <a:t>Rapid speciation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Text Box 17"/>
              <p:cNvSpPr/>
              <p:nvPr/>
            </p:nvSpPr>
            <p:spPr>
              <a:xfrm>
                <a:off x="1632600" y="4685040"/>
                <a:ext cx="45144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Text Box 18"/>
              <p:cNvSpPr/>
              <p:nvPr/>
            </p:nvSpPr>
            <p:spPr>
              <a:xfrm>
                <a:off x="3012840" y="3558240"/>
                <a:ext cx="451440" cy="86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Text Box 19"/>
              <p:cNvSpPr/>
              <p:nvPr/>
            </p:nvSpPr>
            <p:spPr>
              <a:xfrm>
                <a:off x="5892840" y="2353680"/>
                <a:ext cx="451440" cy="86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ff0000"/>
                    </a:solidFill>
                    <a:latin typeface="Arial"/>
                  </a:rPr>
                  <a:t>Stasis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63" name="Group 20"/>
              <p:cNvGrpSpPr/>
              <p:nvPr/>
            </p:nvGrpSpPr>
            <p:grpSpPr>
              <a:xfrm>
                <a:off x="1997640" y="768600"/>
                <a:ext cx="5454000" cy="5136480"/>
                <a:chOff x="1997640" y="768600"/>
                <a:chExt cx="5454000" cy="5136480"/>
              </a:xfrm>
            </p:grpSpPr>
            <p:sp>
              <p:nvSpPr>
                <p:cNvPr id="164" name="Rectangle 21"/>
                <p:cNvSpPr/>
                <p:nvPr/>
              </p:nvSpPr>
              <p:spPr>
                <a:xfrm flipH="1" rot="5400000">
                  <a:off x="4826880" y="1852200"/>
                  <a:ext cx="86040" cy="293112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0000"/>
                    </a:gs>
                    <a:gs pos="100000">
                      <a:srgbClr val="00800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5" name="Rectangle 22"/>
                <p:cNvSpPr/>
                <p:nvPr/>
              </p:nvSpPr>
              <p:spPr>
                <a:xfrm flipH="1" rot="5400000">
                  <a:off x="6836400" y="1793160"/>
                  <a:ext cx="70560" cy="115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0080"/>
                    </a:gs>
                    <a:gs pos="100000">
                      <a:srgbClr val="ff0000"/>
                    </a:gs>
                  </a:gsLst>
                  <a:lin ang="108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6" name="Rectangle 23"/>
                <p:cNvSpPr/>
                <p:nvPr/>
              </p:nvSpPr>
              <p:spPr>
                <a:xfrm flipH="1">
                  <a:off x="1997280" y="2004120"/>
                  <a:ext cx="60120" cy="3900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008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7" name="Rectangle 24"/>
                <p:cNvSpPr/>
                <p:nvPr/>
              </p:nvSpPr>
              <p:spPr>
                <a:xfrm flipH="1">
                  <a:off x="3403080" y="776160"/>
                  <a:ext cx="60120" cy="3768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008000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8" name="Rectangle 25"/>
                <p:cNvSpPr/>
                <p:nvPr/>
              </p:nvSpPr>
              <p:spPr>
                <a:xfrm flipH="1">
                  <a:off x="6274440" y="776160"/>
                  <a:ext cx="60120" cy="2572200"/>
                </a:xfrm>
                <a:prstGeom prst="rect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69" name="Rectangle 26"/>
                <p:cNvSpPr/>
                <p:nvPr/>
              </p:nvSpPr>
              <p:spPr>
                <a:xfrm flipH="1" rot="5400000">
                  <a:off x="2698920" y="3788640"/>
                  <a:ext cx="55080" cy="145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9966"/>
                    </a:gs>
                    <a:gs pos="100000">
                      <a:srgbClr val="333399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70" name="Rectangle 27"/>
                <p:cNvSpPr/>
                <p:nvPr/>
              </p:nvSpPr>
              <p:spPr>
                <a:xfrm flipH="1">
                  <a:off x="7390800" y="768600"/>
                  <a:ext cx="60120" cy="1623960"/>
                </a:xfrm>
                <a:prstGeom prst="rect">
                  <a:avLst/>
                </a:prstGeom>
                <a:solidFill>
                  <a:srgbClr val="800080"/>
                </a:solidFill>
                <a:ln w="936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171" name="Text Box 28"/>
            <p:cNvSpPr/>
            <p:nvPr/>
          </p:nvSpPr>
          <p:spPr>
            <a:xfrm>
              <a:off x="1411200" y="2229480"/>
              <a:ext cx="122688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80"/>
                  </a:solidFill>
                  <a:latin typeface="Arial"/>
                </a:rPr>
                <a:t>Species W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29"/>
            <p:cNvSpPr/>
            <p:nvPr/>
          </p:nvSpPr>
          <p:spPr>
            <a:xfrm>
              <a:off x="2808720" y="1048320"/>
              <a:ext cx="122688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8000"/>
                  </a:solidFill>
                  <a:latin typeface="Arial"/>
                </a:rPr>
                <a:t>Species X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Text Box 30"/>
            <p:cNvSpPr/>
            <p:nvPr/>
          </p:nvSpPr>
          <p:spPr>
            <a:xfrm>
              <a:off x="5544000" y="426600"/>
              <a:ext cx="122688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Arial"/>
                </a:rPr>
                <a:t>Species Y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Text Box 31"/>
            <p:cNvSpPr/>
            <p:nvPr/>
          </p:nvSpPr>
          <p:spPr>
            <a:xfrm>
              <a:off x="6949800" y="419040"/>
              <a:ext cx="1226880" cy="34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800080"/>
                  </a:solidFill>
                  <a:latin typeface="Arial"/>
                </a:rPr>
                <a:t>Species Z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5" name="Text Box 32"/>
          <p:cNvSpPr/>
          <p:nvPr/>
        </p:nvSpPr>
        <p:spPr>
          <a:xfrm>
            <a:off x="255600" y="652788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08 Paul Billiet ODW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6T17:00:58Z</dcterms:created>
  <dc:creator>Billiet</dc:creator>
  <dc:description/>
  <dc:language>en-US</dc:language>
  <cp:lastModifiedBy>mcKillop</cp:lastModifiedBy>
  <dcterms:modified xsi:type="dcterms:W3CDTF">2012-04-21T23:19:36Z</dcterms:modified>
  <cp:revision>11</cp:revision>
  <dc:subject/>
  <dc:title>PUNCTUATED EQUILIBRIUM</dc:title>
</cp:coreProperties>
</file>